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4E3-8FE2-4350-A580-C20A3F20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66D-B8D1-43D7-A66F-07A6A37E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295-3ECC-400A-A3FE-03D02DDD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6C7-65BB-47E9-A36C-1B305BA0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4FB-5FEA-4D88-97ED-95A32646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CA6-F809-44CA-AB64-FFE54A2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F73-DDFA-4BBC-9A74-62DC1C75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B67-E92C-4F72-85BE-C4DF476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B33-7FFE-43E3-900D-F90EFC29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261-18CC-4B16-8AC7-51ACEF1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DB7-FFF4-43E2-B657-CD9FC06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A61-D0F2-4A94-A284-EE4E3AE1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3492-CA83-4DC8-9439-96724597B43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طلبوا ملكوتَ الله وبـِرَهُ أولاً</a:t>
            </a:r>
            <a:br>
              <a:rPr sz="7400"/>
            </a:b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كلُّ تلكَ الأشياءِ تُزادُ لكُم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للوا هللويا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سألوا يُعطى لكُم، أُطلبوا تجدوا، إقرعوا يُفتَحُ البابُ لكُم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للوا هللويا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2:02Z</dcterms:created>
  <dc:creator>Charbel Azar</dc:creator>
  <dc:description/>
  <dc:language>en-US</dc:language>
  <cp:lastModifiedBy>Personal</cp:lastModifiedBy>
  <dcterms:modified xsi:type="dcterms:W3CDTF">2008-04-24T08:29:11Z</dcterms:modified>
  <cp:revision>43</cp:revision>
  <dc:subject/>
  <dc:title>Slide 1</dc:title>
</cp:coreProperties>
</file>